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E0E5E-5C0A-49EE-A795-A6088A547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C871A-B373-40E9-A4B6-A57A9D4A9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258E1-09CE-47AA-B72A-A306DBCE1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36AC5-D1B2-4E93-A0AC-FD3EC94BD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DD56D-EA8D-40BB-A0EB-A78D12825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0FD68-CC4F-4774-8795-55801477F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39D7E-0280-40AC-8D74-7D7CE089A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79CD9-C4FB-4D8B-A17D-1AF596A9C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A2D5C-CBA4-4DF6-9AF7-1371BBBFF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6691C-D4C3-418D-959C-618E4919D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0B96D-9104-4430-AEC7-1D462FB36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DA818-0E0D-47C4-8FCD-410B063CE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Cordia Ne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Cordia New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Cordia Ne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43DAA-FC6E-42F7-A722-6E7E3593B49B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Cordia Ne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image" Target="../media/image4.jpeg"/><Relationship Id="rId7" Type="http://schemas.openxmlformats.org/officeDocument/2006/relationships/image" Target="../media/image5.jpeg"/><Relationship Id="rId8" Type="http://schemas.openxmlformats.org/officeDocument/2006/relationships/image" Target="../media/image6.jpeg"/><Relationship Id="rId9" Type="http://schemas.openxmlformats.org/officeDocument/2006/relationships/image" Target="../media/image7.jpeg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56760" y="1428480"/>
            <a:ext cx="1079640" cy="12603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ffffff"/>
                </a:solidFill>
                <a:latin typeface="Calibri"/>
              </a:rPr>
              <a:t>รูปขนาด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3.5x3 cm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500 kb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itle 1"/>
          <p:cNvSpPr/>
          <p:nvPr/>
        </p:nvSpPr>
        <p:spPr>
          <a:xfrm>
            <a:off x="0" y="71280"/>
            <a:ext cx="914400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"/>
              </a:rPr>
              <a:t>TATC ROBO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Subtitle 2"/>
          <p:cNvSpPr/>
          <p:nvPr/>
        </p:nvSpPr>
        <p:spPr>
          <a:xfrm>
            <a:off x="0" y="857160"/>
            <a:ext cx="91440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600" spc="-1" strike="noStrike">
                <a:solidFill>
                  <a:srgbClr val="ffffff"/>
                </a:solidFill>
                <a:latin typeface="Calibri"/>
                <a:cs typeface="Cordia New"/>
              </a:rPr>
              <a:t>วิทยาลัยเทคนิคสัตหีบ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itle 1"/>
          <p:cNvSpPr/>
          <p:nvPr/>
        </p:nvSpPr>
        <p:spPr>
          <a:xfrm>
            <a:off x="2206800" y="1428840"/>
            <a:ext cx="1079280" cy="1260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ffffff"/>
                </a:solidFill>
                <a:latin typeface="Calibri"/>
              </a:rPr>
              <a:t>รูปขนาด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3.5x3 cm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500 k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itle 1"/>
          <p:cNvSpPr/>
          <p:nvPr/>
        </p:nvSpPr>
        <p:spPr>
          <a:xfrm>
            <a:off x="4071960" y="1428840"/>
            <a:ext cx="1079640" cy="1260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ffffff"/>
                </a:solidFill>
                <a:latin typeface="Calibri"/>
              </a:rPr>
              <a:t>รูปขนาด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3.5x3 cm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500 k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itle 1"/>
          <p:cNvSpPr/>
          <p:nvPr/>
        </p:nvSpPr>
        <p:spPr>
          <a:xfrm>
            <a:off x="5929200" y="1428840"/>
            <a:ext cx="1079640" cy="1260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ffffff"/>
                </a:solidFill>
                <a:latin typeface="Calibri"/>
              </a:rPr>
              <a:t>รูปขนาด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3.5x3 cm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500 k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itle 1"/>
          <p:cNvSpPr/>
          <p:nvPr/>
        </p:nvSpPr>
        <p:spPr>
          <a:xfrm>
            <a:off x="7707240" y="1428840"/>
            <a:ext cx="1079640" cy="1260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ffffff"/>
                </a:solidFill>
                <a:latin typeface="Calibri"/>
              </a:rPr>
              <a:t>รูปขนาด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3.5x3 cm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500 k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itle 1"/>
          <p:cNvSpPr/>
          <p:nvPr/>
        </p:nvSpPr>
        <p:spPr>
          <a:xfrm>
            <a:off x="320760" y="3049560"/>
            <a:ext cx="4680000" cy="2879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Calibri"/>
              </a:rPr>
              <a:t>รูปหุ่นยนต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itle 1"/>
          <p:cNvSpPr/>
          <p:nvPr/>
        </p:nvSpPr>
        <p:spPr>
          <a:xfrm>
            <a:off x="5214960" y="3071880"/>
            <a:ext cx="3600360" cy="2160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Calibri"/>
              </a:rPr>
              <a:t>รูป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U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11"/>
          <p:cNvSpPr/>
          <p:nvPr/>
        </p:nvSpPr>
        <p:spPr>
          <a:xfrm>
            <a:off x="142920" y="2714760"/>
            <a:ext cx="1500120" cy="2764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Calibri"/>
                <a:cs typeface="Cordia New"/>
              </a:rPr>
              <a:t>นายเสกสรร  ศรีจันทร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16"/>
          <p:cNvSpPr/>
          <p:nvPr/>
        </p:nvSpPr>
        <p:spPr>
          <a:xfrm>
            <a:off x="7500960" y="2714760"/>
            <a:ext cx="1500120" cy="2764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Calibri"/>
                <a:cs typeface="Cordia New"/>
              </a:rPr>
              <a:t>นายนิรนาม  สังข์เทีย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17"/>
          <p:cNvSpPr/>
          <p:nvPr/>
        </p:nvSpPr>
        <p:spPr>
          <a:xfrm>
            <a:off x="5715000" y="2714760"/>
            <a:ext cx="1500120" cy="641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Arial"/>
              </a:rPr>
              <a:t>นายธัญลักษณ์  นามวงษ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18"/>
          <p:cNvSpPr/>
          <p:nvPr/>
        </p:nvSpPr>
        <p:spPr>
          <a:xfrm>
            <a:off x="3857760" y="2714760"/>
            <a:ext cx="1500120" cy="459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Calibri"/>
                <a:cs typeface="Cordia New"/>
              </a:rPr>
              <a:t>นายปภาวิชญ์   ศรีบริสุทธิ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19"/>
          <p:cNvSpPr/>
          <p:nvPr/>
        </p:nvSpPr>
        <p:spPr>
          <a:xfrm>
            <a:off x="2000160" y="2714760"/>
            <a:ext cx="1500120" cy="2764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Calibri"/>
                <a:cs typeface="Cordia New"/>
              </a:rPr>
              <a:t>นายอภินันท์  วัลลิสุต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352440" y="1441440"/>
          <a:ext cx="1079640" cy="1257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52440" y="1441440"/>
                    <a:ext cx="1079640" cy="125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5216400" y="3087720"/>
          <a:ext cx="3594240" cy="2158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216400" y="3087720"/>
                    <a:ext cx="3594240" cy="21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9" name="" descr=""/>
          <p:cNvPicPr/>
          <p:nvPr/>
        </p:nvPicPr>
        <p:blipFill>
          <a:blip r:embed="rId6"/>
          <a:stretch/>
        </p:blipFill>
        <p:spPr>
          <a:xfrm>
            <a:off x="2195640" y="1413000"/>
            <a:ext cx="1114200" cy="12952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7"/>
          <a:stretch/>
        </p:blipFill>
        <p:spPr>
          <a:xfrm>
            <a:off x="4067280" y="1413000"/>
            <a:ext cx="1109520" cy="12952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8"/>
          <a:stretch/>
        </p:blipFill>
        <p:spPr>
          <a:xfrm>
            <a:off x="7686720" y="1413000"/>
            <a:ext cx="1114560" cy="12952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9"/>
          <a:stretch/>
        </p:blipFill>
        <p:spPr>
          <a:xfrm>
            <a:off x="5911920" y="1413000"/>
            <a:ext cx="1111320" cy="1295280"/>
          </a:xfrm>
          <a:prstGeom prst="rect">
            <a:avLst/>
          </a:prstGeom>
          <a:ln w="0">
            <a:noFill/>
          </a:ln>
        </p:spPr>
      </p:pic>
      <p:pic>
        <p:nvPicPr>
          <p:cNvPr id="63" name="รูปภาพ 7" descr="Assem1.JPG"/>
          <p:cNvPicPr/>
          <p:nvPr/>
        </p:nvPicPr>
        <p:blipFill>
          <a:blip r:embed="rId10"/>
          <a:srcRect l="0" t="0" r="0" b="-80"/>
          <a:stretch/>
        </p:blipFill>
        <p:spPr>
          <a:xfrm>
            <a:off x="380880" y="3059280"/>
            <a:ext cx="460872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2:38:21Z</dcterms:created>
  <dc:creator>pymta</dc:creator>
  <dc:description/>
  <dc:language>en-US</dc:language>
  <cp:lastModifiedBy>seksan</cp:lastModifiedBy>
  <dcterms:modified xsi:type="dcterms:W3CDTF">2009-10-02T07:43:36Z</dcterms:modified>
  <cp:revision>38</cp:revision>
  <dc:subject/>
  <dc:title>Slide 1</dc:title>
</cp:coreProperties>
</file>